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9.png" ContentType="image/png"/>
  <Override PartName="/ppt/media/image28.png" ContentType="image/png"/>
  <Override PartName="/ppt/media/image16.jpeg" ContentType="image/jpeg"/>
  <Override PartName="/ppt/media/image27.png" ContentType="image/png"/>
  <Override PartName="/ppt/media/image25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4.wmf" ContentType="image/x-wmf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5.jpeg" ContentType="image/jpe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8280" y="771120"/>
            <a:ext cx="5110200" cy="383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FEAB3DB-5BCB-46A5-9B79-30A86A95F4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6CC8961-F6A1-46ED-A230-B83B58C466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8A0E63F-479C-4CA3-9C13-0FE1711D80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15EF6D5-F63C-4833-A554-BA54814A2C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41DB73A-7A60-4665-8F4A-F9DF74BE58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6DFA2BC-FC6B-4C9A-B822-7B4D2AEF05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5475249-B876-4273-BDA1-EFF88DF480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E828E19-7EA8-4841-B2E8-5421D74931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249A12B-CB2C-4BF8-98BC-5CEE6A26CB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13DDD7A-60A8-468B-A624-C9E56D0F2B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4FD26C4-C5C5-416C-B5F8-328F09360C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69007FF-6C33-485D-BB0C-67D253DA06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C91FE93-3420-4870-8508-0F210F8D0F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7B37F5C-451D-49A3-B5BF-A55098D62F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EB8C4A8-1579-44E2-A1DE-08DABCC5DA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AD3946F-6CAA-4CF5-9A3E-CF7DE1814E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86093CA-F281-4153-B8C3-7DCDAE680F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1CA8B6C-C15F-457D-96A1-40FF3CF230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8C64567-CF5A-450A-8168-6356911353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66034C4-6EE9-45E1-A597-ACA96F25A1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7A3EDA8-4981-499A-843B-B202E1D1D7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158A5F8-BC03-47AA-8554-BBDB9F570C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BC69580-4E06-4F15-8310-B0119A1A76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06C0376-C1B3-4BD6-BF79-C3B2344E40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B4E0DD2-1A49-46DD-AD42-A3D5D48A1B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5F8C681-CA31-499E-8F8A-C7536B17A2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FB780A1-EE6C-49EA-9ED8-CC7307E0DC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27CD6B3-B88C-4421-B5A9-FB5CC8D285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B947431-6948-4D92-8FEC-6F51DA6B10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567A43C-8396-4214-9B0B-281F2715C1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08D8A15-D455-44A0-945F-E639EB7BAA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1FA78D2-4FD6-4D50-A895-54011D02B0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75F6148-F897-48DD-ACC5-394DC97E66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ED970C9-8CAF-4E82-B192-6F8D980365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F97C8-7D02-4D6C-895D-0A84E638D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859560"/>
            <a:ext cx="8534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C91B-0565-41D6-A32F-BF171C7C4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84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BAC9-283F-43DC-BC3F-442C42420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0680" y="91404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6080" y="91404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85956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0680" y="385956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6080" y="385956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89BB-72C4-4B8C-A124-A9F2BCCA0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A1C8-7FA6-4036-9F6B-AC0465540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84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859560"/>
            <a:ext cx="8534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859560"/>
            <a:ext cx="8534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84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0680" y="91404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6080" y="91404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85956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0680" y="385956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6080" y="385956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CE9B-5C94-4501-BA5C-E473E7BD4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82F0-7354-4AB7-BD1A-F71976EB50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BF10-CF39-4BA3-94F5-26D534A14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9EA7-9580-4167-BE61-0BC6C2A17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67F8-3F1D-4EF6-BDF6-7DC8996DC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84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BB0F-0629-4289-A65C-C53F2B9B2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9560"/>
            <a:ext cx="8534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EF9E-4D41-4513-AACE-E31E2AE2E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1143000" indent="-1904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1523880" indent="-1904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1943280" indent="-19080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1943280" indent="-1908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1943280" indent="-1908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7b1c15"/>
                </a:solidFill>
                <a:latin typeface="Optima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41DB-EA25-4B1F-B0A0-4C643AABC4B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1143000" indent="-1904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1523880" indent="-1904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1943280" indent="-19080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1943280" indent="-1908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1943280" indent="-1908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drpo@ida.liu.se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ida.liu.se/labs/pelab/modelica/OpenModelic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OpenModelica Eclipse Plugin and </a:t>
            </a:r>
            <a:br>
              <a:rPr sz="4800"/>
            </a:b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MetaModelica Exercises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42920" y="3213000"/>
            <a:ext cx="7129440" cy="20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rian Pop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c1c1c"/>
                </a:solidFill>
                <a:uFillTx/>
                <a:latin typeface="Trebuchet MS"/>
                <a:hlinkClick r:id="rId1"/>
              </a:rPr>
              <a:t>adrpo@ida.liu.se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ELAB/IDA/LIU,  2007-03-29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Updated 2009-10-19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by Peter Fritzson and Martin Sjölund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A88D-DA79-43ED-9120-02D41C2E2E8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ow the OpenModelica Console View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8CBC-A4C1-4910-BB46-73EC0CE4477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0_simplesim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perform a simple simulation in the MDT Eclipse environmen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23960" indent="-2714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Type or copy a simple model into an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23960" indent="-2714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Open the Eclipse view “OpenModelica console”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23960" indent="-2714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ulate with the simulate command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23960" indent="-2714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plot with the plot command.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Note: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following exercises you will no longer use the “OpenModelica console”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A976-EFED-43A7-B20E-CCA1315D3F4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01 - 04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6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480B-7236-4A0C-BED2-7BBEBE6B374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 the first projec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6" name="Picture 4" descr="step04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92B0-A274-4180-9064-C62F4AB5B56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6210360"/>
          </a:xfrm>
          <a:prstGeom prst="rect">
            <a:avLst/>
          </a:prstGeom>
          <a:ln w="0">
            <a:noFill/>
          </a:ln>
        </p:spPr>
      </p:pic>
      <p:sp>
        <p:nvSpPr>
          <p:cNvPr id="130" name="Line 5"/>
          <p:cNvSpPr/>
          <p:nvPr/>
        </p:nvSpPr>
        <p:spPr>
          <a:xfrm flipH="1" flipV="1">
            <a:off x="3995280" y="1915920"/>
            <a:ext cx="1584360" cy="143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601960" y="3357720"/>
            <a:ext cx="293904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</a:t>
            </a: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DIS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ll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D343-CBA4-4D5C-9AC0-B9B6D9397B4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 the first projec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4" name="Picture 4" descr="step05"/>
          <p:cNvPicPr/>
          <p:nvPr/>
        </p:nvPicPr>
        <p:blipFill>
          <a:blip r:embed="rId1"/>
          <a:stretch/>
        </p:blipFill>
        <p:spPr>
          <a:xfrm>
            <a:off x="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5E03-B64D-4A3A-A08D-0C643D59A3C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138" name="Line 5"/>
          <p:cNvSpPr/>
          <p:nvPr/>
        </p:nvSpPr>
        <p:spPr>
          <a:xfrm flipH="1">
            <a:off x="4572000" y="2133720"/>
            <a:ext cx="720720" cy="23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13680" y="907920"/>
            <a:ext cx="50727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ve 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builds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leans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uns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7"/>
          <p:cNvSpPr/>
          <p:nvPr/>
        </p:nvSpPr>
        <p:spPr>
          <a:xfrm flipH="1" flipV="1">
            <a:off x="2843280" y="4869000"/>
            <a:ext cx="1728720" cy="129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8"/>
          <p:cNvSpPr/>
          <p:nvPr/>
        </p:nvSpPr>
        <p:spPr>
          <a:xfrm flipV="1">
            <a:off x="1619280" y="4869000"/>
            <a:ext cx="43164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03320" y="5597640"/>
            <a:ext cx="261468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lems 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bu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586040" y="5950080"/>
            <a:ext cx="35899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ild and run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splay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8599-3450-411C-878F-E9FE1751A2C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ting the debug configurati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46" name="Picture 4" descr="step07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45BB-AD13-4D15-A20C-541FDD5F7AE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pecify the executable from the projec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49" name="Picture 4" descr="step08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0" name="Line 5"/>
          <p:cNvSpPr/>
          <p:nvPr/>
        </p:nvSpPr>
        <p:spPr>
          <a:xfrm flipH="1" flipV="1">
            <a:off x="5724000" y="2349360"/>
            <a:ext cx="955800" cy="6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508720" y="29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Browse and select the executable you just bu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7"/>
          <p:cNvSpPr/>
          <p:nvPr/>
        </p:nvSpPr>
        <p:spPr>
          <a:xfrm flipV="1">
            <a:off x="3079800" y="3068280"/>
            <a:ext cx="52200" cy="2297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908000" y="5373720"/>
            <a:ext cx="223236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parame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ABE4-8970-47FA-947C-364275A765A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pecify the name of the executabl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56" name="Picture 4" descr="step0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7" name="Line 5"/>
          <p:cNvSpPr/>
          <p:nvPr/>
        </p:nvSpPr>
        <p:spPr>
          <a:xfrm flipH="1" flipV="1">
            <a:off x="5651280" y="2349360"/>
            <a:ext cx="1244520" cy="6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724360" y="29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Browse and select the executable you just bu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1816-1D28-463E-B44D-C8F44745920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Modelica MDT – Eclipse Plugi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Browsing of packages, classes, function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building of executables;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parate compilation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yntax highlighting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completion,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query support for developer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Indentation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Debugger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(Prel. version for algorithmic subset)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</p:txBody>
      </p:sp>
      <p:pic>
        <p:nvPicPr>
          <p:cNvPr id="91" name="Picture 4" descr="eclipseplatform"/>
          <p:cNvPicPr/>
          <p:nvPr/>
        </p:nvPicPr>
        <p:blipFill>
          <a:blip r:embed="rId1"/>
          <a:stretch/>
        </p:blipFill>
        <p:spPr>
          <a:xfrm>
            <a:off x="5956200" y="1692360"/>
            <a:ext cx="29908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C0C3-88B4-4636-AC40-2FB086662AB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 breakpoints in .mo fil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1" name="Picture 4" descr="step10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2" name="Line 5"/>
          <p:cNvSpPr/>
          <p:nvPr/>
        </p:nvSpPr>
        <p:spPr>
          <a:xfrm flipH="1" flipV="1">
            <a:off x="2050920" y="2923920"/>
            <a:ext cx="1532160" cy="157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411280" y="4508640"/>
            <a:ext cx="31687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lick on the ruler to set break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4420-DAEA-4C0D-8172-D6690C2147F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n the debug configuration to start debugg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6" name="Picture 4" descr="step11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7" name="Line 5"/>
          <p:cNvSpPr/>
          <p:nvPr/>
        </p:nvSpPr>
        <p:spPr>
          <a:xfrm flipH="1" flipV="1">
            <a:off x="971640" y="981000"/>
            <a:ext cx="1603440" cy="3160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403280" y="4149720"/>
            <a:ext cx="3384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nd selec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bugging will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9929-BA2E-441C-BEC8-F7EAEA5FB40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clipse will ask to switch to debugging perspectiv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1" name="Picture 4" descr="step12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7569-7955-49DA-BD61-61EC0855BB1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perspectiv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4" name="Picture 4" descr="step13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5" name="Line 5"/>
          <p:cNvSpPr/>
          <p:nvPr/>
        </p:nvSpPr>
        <p:spPr>
          <a:xfrm flipV="1">
            <a:off x="1763640" y="1341360"/>
            <a:ext cx="2016360" cy="345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47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buttons to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tep into works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7"/>
          <p:cNvSpPr/>
          <p:nvPr/>
        </p:nvSpPr>
        <p:spPr>
          <a:xfrm flipV="1">
            <a:off x="5219640" y="1628280"/>
            <a:ext cx="360360" cy="280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4643280" y="450864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variables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here is a tab with break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7EB6-B1D1-4C80-9B1A-A807C4F9327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ing perspectiv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81" name="Picture 4" descr="step14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 flipV="1">
            <a:off x="4448160" y="1483920"/>
            <a:ext cx="3579840" cy="301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276720" y="4508640"/>
            <a:ext cx="35272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Debug and Modelica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36B1-0AA4-48F2-91B2-3322806D5B6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repeat the procedure for all exercises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02b_exp2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5a_assigntwotyp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5b_modassigntwotyp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6_advanced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7_OMCAndCorba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leave open only the project you are working on!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ose all the others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7A65-CE6A-4A6D-97D1-5DCB8545B8B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98360" y="620640"/>
            <a:ext cx="86216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7B69-9686-431D-BC47-D9C9D45724A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Opening view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6720" y="620640"/>
            <a:ext cx="8352000" cy="626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924280" cy="5819760"/>
          </a:xfrm>
          <a:prstGeom prst="rect">
            <a:avLst/>
          </a:prstGeom>
          <a:ln w="0">
            <a:noFill/>
          </a:ln>
        </p:spPr>
      </p:pic>
      <p:sp>
        <p:nvSpPr>
          <p:cNvPr id="194" name="Line 6"/>
          <p:cNvSpPr/>
          <p:nvPr/>
        </p:nvSpPr>
        <p:spPr>
          <a:xfrm>
            <a:off x="4572000" y="2060640"/>
            <a:ext cx="100800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1734120" y="5445000"/>
            <a:ext cx="38275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n additional vie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Window-&gt;ShowView-&gt;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17D8-D29B-4317-BDA0-4434881AAAD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5280" y="91404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Each exercise is in a different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ll exercises have :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- information about the exercise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– the solution of the exercise (if the exercise has some implementation assignment)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program.txt</a:t>
            </a:r>
            <a:r>
              <a:rPr b="1" lang="en-US" sz="2400" spc="-1" strike="noStrike">
                <a:solidFill>
                  <a:srgbClr val="213159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– input program to the exercise, edit if needed (for the exercises which have an input)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nsult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MetaModelica Programming Guid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and the slides if you need additional information during the exercises. 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Of course, feel free to ask us any type of questions, is faster and better!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6043-5D8A-4EEE-A6C6-8A581D08EA7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1_experimen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Type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nstant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Function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Write functions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Function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to display the constants defined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Type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Main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Functions.mo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28CB-7B92-419B-9C74-91E7515ABD9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clipse and Exercise Setup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Exercises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02b_exp2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5a_assigntwotyp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5b_modassigntwotyp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6_advanced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7_OMCAndCorba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8-11 – as samples of Prog. Lang. modeling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2095-578F-44F7-93B3-5AC4F8706B3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a_exp1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4320" indent="-2743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74320" indent="-2743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will add new constructs to the exp1 language and deal with their evaluation.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74320" indent="-2743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- add new constructs to the languag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31520" indent="-27432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 power operator   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(^)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31520" indent="-27432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 factorial operat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(!)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31520" indent="-27432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with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Exp1.mo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74320" indent="-2743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Not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31520" indent="-27432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The parser/lexer are ready, but give parser errors for the new operators until they are added 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Exp1.mo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74320" indent="-2743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B608-FC8D-4CE6-99C0-F295BCDB57A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b_exp2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model the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1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language using different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trees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xplore th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2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 and compare it with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1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F855-3C40-4BA0-890C-D88C0AF641B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3_symbolicderivativ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dd rules to derive ‘-’, ‘*’, sine, cosine and power expressions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dd rules to simplify ‘-’, sine, cosine and power expressions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</a:rPr>
              <a:t>SymbolicDerivative.mo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FECA-07CB-4A26-B79E-8F65B42F667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4_assignmen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the assignments present in the current program before the actual evaluation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the environment after it was augmented with the assignments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</a:rPr>
              <a:t>Assignment.mo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7EF0-8ABF-42EC-AD60-FB246739047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a_assigntwotyp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d a new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type which can hold only integers as strings to the current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node 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d cases to evaluate expressions/assignments of the form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"2" + 1 + "1" + 1.0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i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eval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function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with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AssignTwoType.mo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EFA9-E0A6-490E-81E2-BBD2D05AF5E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b_modassigntwotyp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structure your code within different packages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e code from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05a_assigntwotyp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s now split over 4 packages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ompare the 05a/b projects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909D-3A79-4C53-A3D2-794F6727D6C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polymorphic type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nstant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higher order function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1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Write a polymorphic function that orders a list of any type.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The function has as input a list and a compare function between the objects of that list. 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Write the comparison functions f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Integers</a:t>
            </a:r>
            <a:r>
              <a:rPr b="0" lang="en-US" sz="2400" spc="-1" strike="noStrike">
                <a:solidFill>
                  <a:srgbClr val="213159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String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Real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Test your function o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Types.intList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D30E-F4B8-4A3C-8967-0D92A5FE71F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2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Write a polymorphic map function that applies a function over a list and returns a new list with the result.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Write three functions that transform from: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2" marL="1143000" indent="-190440"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integer to real 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2" marL="1143000" indent="-190440"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integer to string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2" marL="1143000" indent="-190440"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real to string 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Use your map function and the two transformation functions to transform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Types.intLis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to a list of reals and a list of string, then apply the ordering function from Assignment 1 on the newly created list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1B8F-BF0D-421A-9319-468E97B95C0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I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3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Write a polymorphic map function that applies a print function over a list (of Strings) and prints the it.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Use the transformer functions from real-&gt;string and integer-&gt;string from Assignment 2 to transform the real list or the integer list to a string list for printing.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8684-E1B6-44FA-BF03-079E8330A89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Overview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3159"/>
                </a:solidFill>
                <a:latin typeface="Trebuchet MS"/>
              </a:rPr>
              <a:t>We are Switching to OMC Overview now!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43D7-1D87-4FA2-BDFA-287714B9D04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ed Exercises in this Cours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6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66D0-62FD-490D-B2F5-29E272D3D50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2680" y="4428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Development Toolkit (OMDev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49636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MDev is a pre-packaged pre-compiled kit containing all tools needed for OpenModelica development. Just unpack and start working on your platform. (Windows, (Linux)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MetaModelica Compiler (MMC) – for developing OMC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penModelica Compiler (OMC) – for browsing suppor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clipse plugin MDT – (Modelica Development Tooling), e.g. for compiler (OMC) developmen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re-compiled Corba (MICO) for tool communication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ackaged Gnu compiler (Mingw version for Windows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macs mod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Subversion for version handling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Bugzilla for bug reporting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Automatic regression testing using a test suit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Interactive MetaModelica debugger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E499-559C-479B-835A-B9BA4123CDD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Environment Architectur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Object 6"/>
          <p:cNvGraphicFramePr/>
          <p:nvPr/>
        </p:nvGraphicFramePr>
        <p:xfrm>
          <a:off x="546120" y="1509840"/>
          <a:ext cx="7918560" cy="39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09840"/>
                    <a:ext cx="7918560" cy="39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9025-F7BA-4425-8D2F-9080949B07D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lient-Server Architectur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1233360" y="1201680"/>
          <a:ext cx="657072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201680"/>
                    <a:ext cx="657072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ACE3-D2CD-4AD8-AF42-E342874238C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leased in OpenModelica 1.4.5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compiler/interpreter – OMC 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teractive session handler – OMShell 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Notebook with DrModelica –  OMNotebook 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Eclipse plugin MD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mForge graphic editor 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etaModelica Debugger</a:t>
            </a:r>
            <a:br>
              <a:rPr sz="3200"/>
            </a:b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87D0-D77A-43C9-A23C-1FE7CE7D093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ompiler/Interpret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03040" y="1125360"/>
            <a:ext cx="87631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2800" indent="-26280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1.4.5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2800" indent="-26280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urrently implemented in 180 000 lines of MetaModelica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2800" indent="-262800"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cludes code generation, BLT-transformation, index reduction, connection to DASSL, etc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2800" indent="-262800"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ost of the Modelica language including classes, functions, inheritance, modifications, import, etc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2800" indent="-262800"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Hybrid/Discrete event suppor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7E7E-50F1-4885-A466-936EF14CDA9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rba Client-Server API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712476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ple text-based (string) communication in Modelica Syntax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PI supporting model structure query and updat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635040" y="2803680"/>
            <a:ext cx="714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Cal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ulfill the normal Modelica function call syntax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veModel("MyResistorFile.mo",MyResis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ave the model MyResistor into the file “MyResistorFile.mo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ating new models it is most practical to send a model, e.g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Foo   end Foo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e.g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or Port   end Por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E37B-A1CA-4F56-97D2-132563DB9D0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of the Corba API function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03040" y="765000"/>
          <a:ext cx="8509320" cy="21733200"/>
        </p:xfrm>
        <a:graphic>
          <a:graphicData uri="http://schemas.openxmlformats.org/drawingml/2006/table">
            <a:tbl>
              <a:tblPr/>
              <a:tblGrid>
                <a:gridCol w="3237120"/>
                <a:gridCol w="5272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saveModel(A1&lt;string&gt;,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r" pos="3400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Saves the model (A2) in a file given by a string (A1). This call is also in typed API.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File(A1&lt;string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all models in the file. Also in typed API. Returns list of names of top level classes in the loaded fi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the model (A1) by looking up the correct file to load i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$MODELICAPATH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Loads all models in that file into the symbol tabl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lass from the symbol ta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mponent(A1&lt;ident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a component (A1) within a class (A2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lassAnnotation(A1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nnotation given by A2( in the form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 classmod(...)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the model definition referenced by A1. Should be used to add Icon Diagram and Documentation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620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of the component declarations within class A1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1620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{Atype,varidA,”commentA”},{Btype,varidB,”commentB”}, {...}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Annotations(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...}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f all annotations of all components in A1, in the same order as the components, one annotation per compon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mponents in a class, e.g retur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2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there are 2 componen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belonging class, component name and type name of the nth component of a clas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A.B.C,R2,Resistor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here the first component is numbered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flattened annotation record of the nth component  (A2) (the first is has no 1) within class/component A1. Consists of a comma separated string of 15 values, see Annotations in Section 2.4.4 below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false,10,30,...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Modification(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?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modification of the nth component  (A2) where the first  has no 1) of class/component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nheritance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inherited classes of a cla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InheritedClass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type name of the nth inherited class of a class. The first class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nnections in the mode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, as a comma separated pair of connector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R1.n,R2.p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 annotation as comma separated list of values of a flattened record, see Annotations in Section 2.4.4  be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nnection(A1&lt;cref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connectio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connect(A1,A2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model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ith annotation given by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nn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onnection connect(A1,A2) in class given by A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Equation(A1&lt;cref&gt;,A2&lt;expr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expr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the equation A2=A3 to the model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Equa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equations (as a string) in the model named A1. (This includes connect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Equ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(A2) equation of the model named by A1.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der(x)=-1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connect(A.b,C.a)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NthEqua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nth (A2) equation in the model named by A1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or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connectors (as a string) of a class A1. NOTE: partial code instantiation of inheritance is performed before investigating the connector count, in order also to get the inherited connect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 of the nth connector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n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connector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Ic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icon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DiagramAnnot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diagram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con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Icon Annotation of the class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Diagram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Diagram annotation of the class named by A1. NOTE: Since the Diagram annotations can be found in base classes a partial code instantiation is performed that flattens the inheritance hierarchy in order to find all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s in a class/package named by A1 as a list, e.g.: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Electrical,Blocks,Mechanics, Constants,Math,SIunits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tions in a class/packag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Restri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kind of restricted class of &lt;cref&gt;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model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connector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unction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packag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Typ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imitiv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of primitive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necto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connecto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Recor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recor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Block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block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Fun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function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lass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ramete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paramete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sta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onstant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otecte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protecte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Class(A1&lt;cre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Tabl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298F-FF70-45B2-98BA-F841EAF5761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tform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OpenModelica GUI tools (OMShell, OMNotebook, ...) are developed on the Qt4 GUI library, portable between Windows, Linux, Mac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Both compilers (OMC, MMC) are portable between the three platforms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Windows – currently main development and release platform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Linux – also used for developmen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ac - available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E98D-F183-4393-AA05-A8C31E495F4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Switching to Java Perspectiv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9250-5B5C-4CF0-A63F-BD92525858D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7_OMCAndCorba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0080" indent="-2800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0080" indent="-2800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send commands to the OMC Compiler (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omc.ex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) via CORBA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0080" indent="-2800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OMCProxy.java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has functionality for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46640" indent="-28008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tarting the omc process if is not already started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2" marL="1119960" indent="-18648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the starting is a bit different for Windows/Linux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46640" indent="-28008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nding commands to OMC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46640" indent="-28008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logging facilities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0080" indent="-2800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f you need clients in C++ or Python check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46640" indent="-280080"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c1c1c"/>
                </a:solidFill>
                <a:uFillTx/>
                <a:latin typeface="Trebuchet MS"/>
                <a:hlinkClick r:id="rId1"/>
              </a:rPr>
              <a:t>http://www.ida.liu.se/labs/pelab/modelica/OpenModelica.html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46640" indent="-280080"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59"/>
                </a:solidFill>
                <a:latin typeface="Trebuchet MS"/>
              </a:rPr>
              <a:t>developer pages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7B80-D316-4A2D-91CD-26DBE9FA0DC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Switching Workspac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404640" y="608040"/>
            <a:ext cx="8332920" cy="6249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371840" cy="2324160"/>
          </a:xfrm>
          <a:prstGeom prst="rect">
            <a:avLst/>
          </a:prstGeom>
          <a:ln w="0">
            <a:noFill/>
          </a:ln>
        </p:spPr>
      </p:pic>
      <p:sp>
        <p:nvSpPr>
          <p:cNvPr id="102" name="Line 8"/>
          <p:cNvSpPr/>
          <p:nvPr/>
        </p:nvSpPr>
        <p:spPr>
          <a:xfrm>
            <a:off x="2484360" y="3429000"/>
            <a:ext cx="151128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3D4E-1AAE-4F74-8C9A-C53FD6137F0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468360" y="627120"/>
            <a:ext cx="8307360" cy="6230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tretch/>
        </p:blipFill>
        <p:spPr>
          <a:xfrm>
            <a:off x="0" y="209556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3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73" name="Oval 7"/>
          <p:cNvSpPr/>
          <p:nvPr/>
        </p:nvSpPr>
        <p:spPr>
          <a:xfrm>
            <a:off x="2266920" y="6308640"/>
            <a:ext cx="936720" cy="54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8"/>
          <p:cNvSpPr/>
          <p:nvPr/>
        </p:nvSpPr>
        <p:spPr>
          <a:xfrm flipV="1">
            <a:off x="3274920" y="3499920"/>
            <a:ext cx="2376720" cy="280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1258920" y="5013360"/>
            <a:ext cx="9367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0"/>
          <p:cNvSpPr/>
          <p:nvPr/>
        </p:nvSpPr>
        <p:spPr>
          <a:xfrm flipH="1">
            <a:off x="1116000" y="1125360"/>
            <a:ext cx="2951280" cy="352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EEA7-2D9A-48F6-99FC-EF04286FF9B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ank you!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dministrative Question: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What would you like to implement tomorrow 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in the OpenModelica Compiler?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1EC2-ACD4-42DB-8F0B-0760F5D7F65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 and Open all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5" name="Picture 4" descr="step01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E9E9-C8F2-435B-AE86-1732D5EC0BB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resh all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8" name="Picture 4" descr="step02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B978-D5EA-44C0-81C5-62CE3B5D43F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ose all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1" name="Picture 4" descr="step03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1648-DEB1-4C22-80D7-823EEA3324D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 to Modelica Perspectiv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2:12:12Z</dcterms:created>
  <dc:creator>Adrian Pop [adrpo@ida.liu.se, http://www.ida.liu.se/~adrpo]</dc:creator>
  <dc:description/>
  <dc:language>en-US</dc:language>
  <cp:lastModifiedBy>Martin Sjölund</cp:lastModifiedBy>
  <cp:lastPrinted>2001-06-05T14:43:50Z</cp:lastPrinted>
  <dcterms:modified xsi:type="dcterms:W3CDTF">2009-10-23T07:24:48Z</dcterms:modified>
  <cp:revision>44</cp:revision>
  <dc:subject>MetaModelica</dc:subject>
  <dc:title>MetaModelica Tutorial and Exercises</dc:title>
</cp:coreProperties>
</file>